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8.wmf" ContentType="image/x-wmf"/>
  <Override PartName="/ppt/media/image9.png" ContentType="image/png"/>
  <Override PartName="/ppt/media/image13.wmf" ContentType="image/x-wmf"/>
  <Override PartName="/ppt/media/image6.wmf" ContentType="image/x-wmf"/>
  <Override PartName="/ppt/media/image7.png" ContentType="image/png"/>
  <Override PartName="/ppt/media/image11.png" ContentType="image/png"/>
  <Override PartName="/ppt/media/image12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F067-5FB8-4873-8CD9-45A853EF9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1E0E-1BB5-4B7E-BFAE-C9B35F4B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70C49-023F-4D53-98DE-48E2E5BB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C3A5F-7E65-4A9E-8471-6A81C457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5DF9F-DF49-4067-8000-E6DCE398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AE8D6-FBF0-4A17-9783-2AF56DAE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CFB64-6C72-4913-BB0F-36E1634E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AEA4E-7568-4E78-B1AB-8067EE82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413F0-75FC-4124-BB6B-C6AD78EB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15CFB-B418-45FC-A136-EF75B45D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F71EB-97FC-43DD-8962-3D8F559B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C8FC6-9369-4248-B582-96D98CDF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A1F0-5304-4A17-A86D-93F41091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D4D41-6DED-45C3-AF46-57651F0D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78467-7FF6-415C-B80F-AFFE4720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985D7-859C-4A13-BD68-5ECD9493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F98AE-353E-4359-99E4-548F8C0C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88658-E1A1-4BCB-AF55-784FDE39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A7B17-CDBD-41F0-872F-ABB4C805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1F5E4-1DAB-45B2-A1A3-E4C655D9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DC950-7ECC-4755-B320-C17D3A8E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AAE99-2615-477D-89F1-F91B9485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E1B92-D245-40D5-B77A-A548C9B0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C89F-397C-4DBF-9A6A-6CE537C5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7AAF4-2C71-44FA-8C78-E58EF5CF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3E02C-9DE4-498E-A7DF-B44D46D3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0FBC1-1B05-4EA4-B76D-CD997E32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141E6-0CF8-4588-BFA7-AAE367F9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BBE60-90AE-47CE-92B9-222DBDEC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8993C-2050-4BA8-9AB3-E60ED370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86B89-98A7-42C9-8C6D-3BA42A46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7D548-C531-4519-8BC9-7C42B93B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A4A3E-1102-4A94-86FF-01839FEB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C6567-90B7-40DA-9CB9-1FF48375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B6D6-45B3-4F68-8CB8-F93DC7EE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E7F31-DED6-47B6-8F0B-43A3171E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AA95D-B5B1-414D-B169-D37D3CC0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41E48-3CDF-460F-B001-CD89C7B4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3AE15-5F13-45F0-8697-E2FD4BD7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E2CA1-C014-483A-97B3-3D72C215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85329-92FE-4BFD-B0BB-29CF356C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00255-16AC-4140-AD06-6AD3EBDD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D49766-9FA7-448A-9B4B-1A185E6E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CF7EA-3E89-4DC0-92FF-26E5DA47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D3C88-6B94-48EC-A14E-809BD25B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8AE1-9A1A-40BD-A1C1-4661719D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1B3A4-ACEA-452E-8037-99A4DA1A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997EB-690D-48C5-8C1F-585FF268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B4563-4DD2-41EF-A279-465C7E89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7020D-979C-4D46-82E4-0C1E713B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38B8C-4B0F-4D50-B009-4338926F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1D64-B048-48B2-8D15-9F174435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C0FF-3FA3-4A85-B8FB-40020811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51EF-879B-49C1-BF4E-FE888E0E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7976-1812-45BF-B562-3D9E3199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6908-2EC2-4FD3-BA53-429A5BE1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CB64-81DC-4B97-B419-AC420803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49FF-BAEB-4F3C-B04F-14200DCE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123F-8485-42BA-9745-370337B6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A80C-E2EA-4646-B14D-B9E361AF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371B-E1E5-47BB-9E3C-AA240118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95E3-093C-4372-BE08-A94CAE98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1C741-367B-4ED3-985A-1310C5DA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AA6DA-FAB4-4199-8DBF-B8EBED04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86892-6422-4614-8234-E3693B21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751F4-EB8C-4D45-9036-9F53E717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82198-82B0-415E-AE8F-C7932AAB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F9C0-BB9F-431D-BEB3-D721FC8D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A37F6-BBA6-4E6F-9EA2-60AB4ED7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CD36B-A56F-4A32-A2BE-5979E87F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AFC57-65D9-4044-BA3D-CA2AB94C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3B08D-0E18-439D-91E8-83F34148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0362D-3B23-4667-9C9F-71BC28F9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7328F-4959-4B5B-8054-AA23314A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245A3-EB15-44EC-9677-02B512A2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31A54-C0D7-4262-98ED-2BD6523D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20404-E251-4F1A-8EE5-1F849829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6CFE7-C223-4A60-AC02-7C3464CE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0D44-D61C-46B5-AC1A-E12133C8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3D917-DB9F-405F-9ED6-DA069ACD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6B85C-A78E-41F1-AC13-A289E299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8CA85-91B5-4BAD-982E-964D67FC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37E4D-5D86-474E-AC09-DF0E87A9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B6B75-BA30-4F5B-A0A2-9631E707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617FB-45C8-44B6-B0D2-DA71245E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09E2C-B206-43EE-B605-DD65FD09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0A17B-EC51-4089-B5CF-34BDF3D3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AC3CA-D640-497D-A90D-8B4E07C24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542A3-B754-4FDC-BCAC-8499BEE6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321E-0CB3-48C6-9394-C20A5ABF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31DD8-437A-4AB5-9A41-AC0F4FA5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47CFD-E872-4993-B408-232C9414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CB1C1-E5DF-4701-B8EB-8BCF90E5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4E006-4D56-446D-B900-5BDBAA7C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8126F-89D7-4E21-8AA4-49D90097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1EEFA-4250-4C07-B0CE-08AA9641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41612-8679-4075-AD2B-29554770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DE2FC-AECC-4C81-8E2D-D9911B1B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693FF-B43F-4B27-AB75-B745535D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644B2-ED45-42EE-A25C-2220AC72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2D81-792E-410D-9420-452FC745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9CE77-027B-4037-BF81-6D73671A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59EEE-09C6-4010-9B74-A4A72CF0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39B79-36AE-4181-AC04-EF7C0F0D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DB70C-D69B-4DAB-B453-C536ACAC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E91EA-A1D5-4FF5-AAA4-646F9D93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8E94C-2E77-4607-9521-9FFD9AA6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B8AD9-5FEA-454B-BC70-034EA498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4D254-2951-4E1A-8DB7-95EDB2B7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074FC-B3DC-4470-B165-9300DC71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6B8DC-40D9-4B3F-854F-9B36F1F0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7D62-82CF-4926-B2A6-B71443CB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5335B-A64B-4C0F-831A-74C86289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51933-98E4-4D02-85F3-E50209E8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09482-5ABA-4A30-8DC0-0D383AEC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3BE2B-2139-42E3-8D89-219E3A3A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36068-C5C5-43D1-ABA0-83642A25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62690-CE48-4FF9-97E2-7B196315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6B951-576F-4A6B-B9E9-19BF629F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9725A-8756-4473-9D64-7B973779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F60A2-6097-4588-8730-672F99EB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6E441-6DC3-4246-AADA-762E8E51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DD40-F45A-488B-9724-4128C429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23A99-1F21-4FA7-B4E1-DBE59A8E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A7F49-2644-40C3-A9A6-D7581BF0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AD09A-9124-45E5-A51C-D4F5C60E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6BA37-C7A1-4A91-934D-AB930475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1E8D1-5FCF-4F95-878C-C79BB345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D8253-ADEF-4652-AB71-8D97780E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EC3DE-3A7C-4A9C-A840-6721F550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65A88-E27F-48A6-A21D-7B0DA634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ABC6D-7AAB-4A8D-A85C-0931280D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B85F7-B674-4E78-8292-10D829DD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7AA9-A4F7-4333-B460-EC9FA53A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7354F-70EA-4610-B612-EEA83470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2AAFE-D248-43A8-AB00-7FC61415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CB1A7-A98B-4240-A053-FC5BBE44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B63B9-5752-4C70-B0F4-57A4759D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400F7-9A32-4CB0-AADA-A9C94393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62374-4D6D-4825-9BB8-0BC1E04C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84CE6-1FFA-43B2-97EE-E318D5CD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BE96E-4A39-4287-8281-E509DB5C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5525B-2022-49F5-B3FA-C6D19D02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A0101-E819-4A06-937C-F1B2149C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9B2F-B936-4449-B45E-BACB983B588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CD72-8DDA-4C5B-9720-9F664C62160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E93A-4D97-4E95-B6A8-BA068C23457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3BDB-BA2C-4F95-A414-252D5C0E8A3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C6A2-2771-410E-ABB7-8BA4C6E5EBF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EE38-8277-4FF9-A168-C433924D28B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6F3F-F74C-4B65-8D3D-757D5D98D2A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0ADD-3EA0-45E7-9444-75CFCFF8D88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C8E8-22DD-449E-9D68-9F096CA4C25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A64B-BD3D-4F08-90E1-F8E2E8AF8CE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0ED3-3A2C-49CF-89E1-9D1BAC111E0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1D1F-DE4B-40B6-8593-DEE725963D3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4.jpe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4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10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1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4.jpeg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Djelovanje tijela  na podlogu - tla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5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tanemo li na snijeg u cipelama, propast ćemo dublje nego kada na snijegu stojimo na skijama. Zašto?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bog čega tupim nožem teže režemo?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što kamion ispod teretnog prostora ima dvostruke kotač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395280" y="1125000"/>
            <a:ext cx="8291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sva tri slučaja na podlogu djeluj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itisna sil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 Posljedice djelovanja pritisne sile na podlogu ovise i 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loštini podloge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 Kako veličina površine utječe na učinak si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= 2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hr-HR" sz="32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m · g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2 kg · 10 N/kg = 20 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10" name="Slika 1" descr=""/>
          <p:cNvPicPr/>
          <p:nvPr/>
        </p:nvPicPr>
        <p:blipFill>
          <a:blip r:embed="rId5"/>
          <a:stretch/>
        </p:blipFill>
        <p:spPr>
          <a:xfrm>
            <a:off x="5219640" y="3130560"/>
            <a:ext cx="314316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250560" y="1484280"/>
            <a:ext cx="4105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isina stolića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h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= 7,0 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Iz pijeska izviruj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= 6,0 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pijesku j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h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h – h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7,0 cm – 6,0 cm = 1,0 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13" name="Slika 1" descr=""/>
          <p:cNvPicPr/>
          <p:nvPr/>
        </p:nvPicPr>
        <p:blipFill>
          <a:blip r:embed="rId4"/>
          <a:stretch/>
        </p:blipFill>
        <p:spPr>
          <a:xfrm>
            <a:off x="4255920" y="1484280"/>
            <a:ext cx="41817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179280" y="1600200"/>
            <a:ext cx="36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 pijeska izviruj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= 6,9 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pijesku j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hr-HR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h =  h - h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h =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7,0 cm – 6,9 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0,1 c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Slika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16" name="Slika 1" descr=""/>
          <p:cNvPicPr/>
          <p:nvPr/>
        </p:nvPicPr>
        <p:blipFill>
          <a:blip r:embed="rId3">
            <a:lum contrast="32000"/>
          </a:blip>
          <a:stretch/>
        </p:blipFill>
        <p:spPr>
          <a:xfrm>
            <a:off x="4572000" y="1592280"/>
            <a:ext cx="410364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79440" y="105264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lak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 manji ako je veća površina plohe na koju ta pritisna sila djelu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lak je jednak količniku pritisne sile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 površine 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 koju ta sila djeluje okomi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19" name="Slika 1" descr=""/>
          <p:cNvPicPr/>
          <p:nvPr/>
        </p:nvPicPr>
        <p:blipFill>
          <a:blip r:embed="rId4"/>
          <a:stretch/>
        </p:blipFill>
        <p:spPr>
          <a:xfrm>
            <a:off x="1042920" y="3429000"/>
            <a:ext cx="705816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755640" y="1484280"/>
            <a:ext cx="7570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inica za tlak je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askal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(znak P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 hPa = 100 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 kPa = 1000 P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7"/>
          <a:stretch/>
        </p:blipFill>
        <p:spPr>
          <a:xfrm>
            <a:off x="3419640" y="2205000"/>
            <a:ext cx="2198520" cy="960480"/>
          </a:xfrm>
          <a:prstGeom prst="rect">
            <a:avLst/>
          </a:prstGeom>
          <a:ln w="0">
            <a:noFill/>
          </a:ln>
        </p:spPr>
      </p:pic>
      <p:pic>
        <p:nvPicPr>
          <p:cNvPr id="522" name="Slika 3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imje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likom tlakom sila iznosa 500 N djeluje na ploštinu 0,25 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3"/>
          <a:stretch/>
        </p:blipFill>
        <p:spPr>
          <a:xfrm>
            <a:off x="1335240" y="2781360"/>
            <a:ext cx="6405480" cy="3527280"/>
          </a:xfrm>
          <a:prstGeom prst="rect">
            <a:avLst/>
          </a:prstGeom>
          <a:ln w="0">
            <a:noFill/>
          </a:ln>
        </p:spPr>
      </p:pic>
      <p:pic>
        <p:nvPicPr>
          <p:cNvPr id="525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178920" y="169920"/>
            <a:ext cx="8713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zmisli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. Težina je djevojke 500N. Pri svakom koraku u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dnom trenutku cijela njezina težina na jednoj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eti. Izračunajte kolikim tlakom djeluje peta na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lo ako je njezina površina 1c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2.  Zašto šivaća igla ima oštar vr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7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28" name="Slika 1" descr=""/>
          <p:cNvPicPr/>
          <p:nvPr/>
        </p:nvPicPr>
        <p:blipFill>
          <a:blip r:embed="rId5"/>
          <a:stretch/>
        </p:blipFill>
        <p:spPr>
          <a:xfrm>
            <a:off x="395280" y="880920"/>
            <a:ext cx="1074600" cy="1125720"/>
          </a:xfrm>
          <a:prstGeom prst="rect">
            <a:avLst/>
          </a:prstGeom>
          <a:ln w="0">
            <a:noFill/>
          </a:ln>
        </p:spPr>
      </p:pic>
      <p:pic>
        <p:nvPicPr>
          <p:cNvPr id="529" name="Slika 3" descr=""/>
          <p:cNvPicPr/>
          <p:nvPr/>
        </p:nvPicPr>
        <p:blipFill>
          <a:blip r:embed="rId6"/>
          <a:stretch/>
        </p:blipFill>
        <p:spPr>
          <a:xfrm>
            <a:off x="6227640" y="3606840"/>
            <a:ext cx="1971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07:24:09Z</dcterms:created>
  <dc:creator>Mladen Vidović</dc:creator>
  <dc:description/>
  <dc:language>en-US</dc:language>
  <cp:lastModifiedBy>MArina Dumančić</cp:lastModifiedBy>
  <dcterms:modified xsi:type="dcterms:W3CDTF">2019-09-14T14:01:16Z</dcterms:modified>
  <cp:revision>37</cp:revision>
  <dc:subject/>
  <dc:title>Tlak</dc:title>
</cp:coreProperties>
</file>